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8FDEB-C98E-49D1-8094-4230E6C53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0C54D-3CED-49BC-B4EB-0114898DC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C9914-54D8-4FBA-951C-430D866EE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939E7-BDE5-4230-AE94-803C381AC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74A3E-B8ED-414C-B682-13F64D76D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E6EBB-2EC7-4FB1-814C-D6196F451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A92B2-D90D-4D8C-A6A1-C42754D02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CF330-2A5A-41C1-BB54-8C07700CF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E3895-FF29-4CD5-B07C-A79A3AAE2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522E9-1084-49B8-B8B1-E9C46F35E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1D11-3E8E-42CC-8B83-AAB5EC6E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5E63-D2AE-422C-82A0-8257B5214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2CB6-B72B-4B61-BCEA-8FB5D079F52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ear 11  - Methodolog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Deadline – 25/9/0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otograph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will need photographs of where you conducted your environment quality surve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will have to be annotated to explain what score you gave a particular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e photograph from the North, South, Central Cleethorp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should be in the methodology?</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sic tab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p showing the location of the 3 wards, 6 sites and survey stre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ed write up – should include some phot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10 predictions with data collection method identifi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riginality – your own surve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of survey si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art 1 – how to write your Methodolog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is section is very important and if you are careful it is quite easy to score full mar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uring your day in Cleethorpes you will complete two types of data coll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 environmental survey going down six streets in Cleethorp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rd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 Heli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orge Stree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terby Cresc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dum Ro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arson Roa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housing survey down St. Peter’s Avenue in Cleethorp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p</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must have a map clearly showing th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different wards (North, Central, Sou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6 different streets where you carried out the environment surv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ocate St. Peter’s Avenue clearly – this is where you will do you the housing surv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key to the methodolog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get top marks you </a:t>
            </a:r>
            <a:r>
              <a:rPr b="1" lang="en-GB" sz="3200" spc="-1" strike="noStrike">
                <a:solidFill>
                  <a:srgbClr val="000000"/>
                </a:solidFill>
                <a:latin typeface="Calibri"/>
              </a:rPr>
              <a:t>MUS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describe precisely how you collected your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plain why you collected the data the data for the best meth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table will help</a:t>
            </a:r>
            <a:endParaRPr b="0" lang="en-US" sz="4400" spc="-1" strike="noStrike">
              <a:solidFill>
                <a:srgbClr val="000000"/>
              </a:solidFill>
              <a:latin typeface="Calibri"/>
            </a:endParaRPr>
          </a:p>
        </p:txBody>
      </p:sp>
      <p:graphicFrame>
        <p:nvGraphicFramePr>
          <p:cNvPr id="52" name=""/>
          <p:cNvGraphicFramePr/>
          <p:nvPr/>
        </p:nvGraphicFramePr>
        <p:xfrm>
          <a:off x="1523880" y="1397160"/>
          <a:ext cx="6096240" cy="1920600"/>
        </p:xfrm>
        <a:graphic>
          <a:graphicData uri="http://schemas.openxmlformats.org/drawingml/2006/table">
            <a:tbl>
              <a:tblPr/>
              <a:tblGrid>
                <a:gridCol w="1219320"/>
                <a:gridCol w="1219320"/>
                <a:gridCol w="1218960"/>
                <a:gridCol w="1219320"/>
                <a:gridCol w="12193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echniqu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ocat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ate and tim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etai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ason for collect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vironmental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ousing Surve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3" name="TextBox 4"/>
          <p:cNvSpPr/>
          <p:nvPr/>
        </p:nvSpPr>
        <p:spPr>
          <a:xfrm>
            <a:off x="785880" y="3714840"/>
            <a:ext cx="642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ke a copy of this table on the paper provid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 up your methodology</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is needs to be written in full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each technique you should have three paragraph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scribe the locations, date and time you are doing the techniqu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detailed description of each metho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xplain the reasons why have collected this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 to show your method (Mr. Still has put on the student drive his photos from the fieldtrip)</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en prediction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to write your ten predictions out for the section and clearly identify which data collection method you will use to collect the d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iginalit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riginality – if you want to score top marks in this section you need to carry out your own data in your own ti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xtension Work – This could be done by comparing the work done in Cleethorpes, with another location in the local area, for example Grimsby.</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To do this you must choose one or two hypothesis that you have already investigated in Cleethorpes and investigate them in Grimsb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You could use a similar questionnaire, or even clearly annotated photograph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data that you have collected should be selected and presented appropriatel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You should then look at the data you have presented and look for pattern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n particula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The hypothesis you have set are correct or incorrect</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Any similarities and differences that there may have been between Cleethorpes and Grimsb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is piece of work is your responsibility and is down to you. Students who carry this out get higher marks. It is important to note that the extension work you do is something that takes places in your own time perhaps on a Saturday Morning or over the six week holid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3:45:37Z</dcterms:created>
  <dc:creator>Chris</dc:creator>
  <dc:description/>
  <dc:language>en-US</dc:language>
  <cp:lastModifiedBy>Chris</cp:lastModifiedBy>
  <dcterms:modified xsi:type="dcterms:W3CDTF">2009-09-01T16:31:00Z</dcterms:modified>
  <cp:revision>2</cp:revision>
  <dc:subject/>
  <dc:title>Year 11  - Methodology</dc:title>
</cp:coreProperties>
</file>